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F10-E519-4150-ABD7-349D23CE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D4B-9981-4B58-AEC7-BF19DAC2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6F9-4CBB-4853-A6AB-0EFED170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4EF-5808-4FDC-A692-242B5BCE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1D0B-1D0E-4439-A541-2567F6B0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2F7A-D070-4118-9083-5A45B08B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B26F-A0AC-4B4E-BB1D-AF7B264E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5496-ED9B-4F2E-BF18-D41CED40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0729-EC65-41C8-9597-9D4D3059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39A1-D603-484E-9DBE-369A413C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2AC7-1465-4B92-B0DD-DC0D5BD3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6BF-0E88-4F93-8381-77A2E78A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1A80-7E5B-486F-90E4-49A45F44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D0AA-4E58-4A87-AF7E-F11D0944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53FE-CE12-42A9-8045-99271657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9701-AD54-4D70-AB9E-979A2ED8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41C0-226E-47E0-8D90-FCC05DBF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9C52C-BA37-4E81-8429-B614C140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1732B-6E7E-43FC-926F-E84BE8C2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1CCD9-F9BF-48A0-B212-0BBAAD7D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C8C68-0EEC-45E5-A563-E226FF1A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C46A7-CC80-4DF8-B913-6D74C007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E8D3-5CB9-46DA-AE2F-85548E58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CB807-0A15-421C-928C-E48761AC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6F2BB-0457-42D9-B4B8-A530736D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ADE05-BFF4-4E3E-A7C4-7F6D94A6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203DB-9AE0-4A41-87F2-AC9C5B6C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64BDB-9FF6-41D5-8605-3EE9E6DD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42C4B-E200-4612-A9DF-3EFBF150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ABF4B-1891-46A1-AA56-EEAA607A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308A6-79B5-428D-9CF7-CE2F8514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81CDE-AAFF-438F-8D92-18BD15FD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21919-B251-4EBA-B8C0-BFAEA6D1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51D-B294-4D8B-808B-26AC35E3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9AD12-3C67-42E5-AB56-C3C21FFE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F771A-F996-4042-833D-7AC89BA5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67B8F-C02B-4E83-A662-9F5A1DA5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1889C-FE32-4FCF-ADE2-924A8D02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7E081-A850-467E-819E-F7F4AE98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4CEEC-99EB-47DF-8D7D-0F0485FC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CD308-247F-4EF4-B71D-F5318565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3630E-027C-4BD4-AB40-7BDFA35C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00F28-3134-4A86-AE81-7F6ED92F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57A5C-3A20-4A42-8AC8-790A764E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970-8703-4E6D-816E-1C798489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E855E-A065-4F4C-A896-403B535F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75C0B-5255-4617-9FF1-6C511AFA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8C563-B863-4235-9F91-99D3B14E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4242D-9AE7-4D75-9553-1143DC4B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471A7-FE2F-4AED-9CD9-56EB019B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1CDB6-6BE4-4A10-AD73-B821F22B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9025F-9B9B-4F91-9D5A-853FF2DB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22948-5384-406E-9E51-18CE32CB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EC580-AB31-46BF-BC1C-3097F5BB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05000-E3CF-4CC7-BDD1-FA75808E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A26-CE28-4671-8E48-55925B4E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9DCC1-5AB1-4E73-8D28-9427E23C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0219F-23C0-44DB-9B51-1572565A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D9B97-B70B-43F0-8AA5-DD87BBAD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DF796-F131-49FB-B0C9-6041A9C0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4C919-153D-495B-B9DE-F06B2FCA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13827-DE97-4995-A82B-CED701E2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DAC47-DBAA-44C1-86FF-245EBDB9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8C545-A672-439B-A66F-594254DF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C6704-67C0-4954-AE96-881C76A5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8AA3D-7276-4241-B46A-114D0748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AAD-1A25-4555-901B-4DF4D2F2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F1F7F-ACC8-43C1-B74B-2E4D0774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82EB3-6795-4ADE-955C-738D228E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4886D-6FCE-4D7F-A117-975B3395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C49BF-B4A6-46AE-B28C-4DABEE4D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ED141-940F-4FAE-B06B-0FA542F1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7F15B-B258-4F44-8CA7-31FB03DC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7A883-41F7-49B7-A442-415F2024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72423-D1EA-4CD9-A3E5-F91897DD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DE8BA-5CBF-4238-88FE-3FC6BAA3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DDA8B-5842-4648-82F4-A13B0139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CD8-8EA0-40C9-A6AA-E43EA9BF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6CA44-3990-402D-9764-01BDEA7B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EFDCD-1DDD-4620-B8C4-89D4EAD5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59248-3A5C-4E6E-8DE4-6B8438FB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62477-E2AE-4708-ABEC-715C4C2E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67249-1A0B-4CF2-BC62-7E3C952D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B6C-D675-419E-8EE0-5C65C3F5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8F6F-7BD9-4C82-8168-B3327B04F95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5727-0A4F-455F-95FD-4D57F4A9B2D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C0E1-0D94-4EF9-94F5-63D3D912239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ADDF-30EA-4409-A7E4-77A5F70C22C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9AA4-D122-4C92-8BC5-8A5A2D59801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FF0D-842B-4910-9CB5-5C34B910D3F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63C1-75EA-4575-A83A-3223C4EB5E5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856800"/>
            <a:ext cx="749952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572314"/>
                </a:solidFill>
                <a:latin typeface="Corbel"/>
              </a:rPr>
              <a:t>Добрый день!</a:t>
            </a:r>
            <a:endParaRPr b="0" lang="en-US" sz="8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Солнце 3"/>
          <p:cNvSpPr/>
          <p:nvPr/>
        </p:nvSpPr>
        <p:spPr>
          <a:xfrm>
            <a:off x="3643200" y="3643200"/>
            <a:ext cx="2643480" cy="2786040"/>
          </a:xfrm>
          <a:prstGeom prst="sun">
            <a:avLst>
              <a:gd name="adj" fmla="val 25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Рисунок 1" descr=""/>
          <p:cNvPicPr/>
          <p:nvPr/>
        </p:nvPicPr>
        <p:blipFill>
          <a:blip r:embed="rId1"/>
          <a:stretch/>
        </p:blipFill>
        <p:spPr>
          <a:xfrm>
            <a:off x="1571760" y="214200"/>
            <a:ext cx="2571480" cy="264348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2" descr=""/>
          <p:cNvPicPr/>
          <p:nvPr/>
        </p:nvPicPr>
        <p:blipFill>
          <a:blip r:embed="rId2"/>
          <a:stretch/>
        </p:blipFill>
        <p:spPr>
          <a:xfrm>
            <a:off x="5572080" y="214200"/>
            <a:ext cx="2500200" cy="278604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3" descr=""/>
          <p:cNvPicPr/>
          <p:nvPr/>
        </p:nvPicPr>
        <p:blipFill>
          <a:blip r:embed="rId3"/>
          <a:stretch/>
        </p:blipFill>
        <p:spPr>
          <a:xfrm>
            <a:off x="1643040" y="3214800"/>
            <a:ext cx="2571840" cy="293364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4" descr=""/>
          <p:cNvPicPr/>
          <p:nvPr/>
        </p:nvPicPr>
        <p:blipFill>
          <a:blip r:embed="rId4"/>
          <a:stretch/>
        </p:blipFill>
        <p:spPr>
          <a:xfrm>
            <a:off x="5572080" y="3286080"/>
            <a:ext cx="261936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2643120" y="642960"/>
            <a:ext cx="43909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1" descr=""/>
          <p:cNvPicPr/>
          <p:nvPr/>
        </p:nvPicPr>
        <p:blipFill>
          <a:blip r:embed="rId1"/>
          <a:stretch/>
        </p:blipFill>
        <p:spPr>
          <a:xfrm>
            <a:off x="2357280" y="785880"/>
            <a:ext cx="5429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1" descr=""/>
          <p:cNvPicPr/>
          <p:nvPr/>
        </p:nvPicPr>
        <p:blipFill>
          <a:blip r:embed="rId1"/>
          <a:stretch/>
        </p:blipFill>
        <p:spPr>
          <a:xfrm>
            <a:off x="1500120" y="214200"/>
            <a:ext cx="3957840" cy="444816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2" descr=""/>
          <p:cNvPicPr/>
          <p:nvPr/>
        </p:nvPicPr>
        <p:blipFill>
          <a:blip r:embed="rId2"/>
          <a:stretch/>
        </p:blipFill>
        <p:spPr>
          <a:xfrm>
            <a:off x="5643720" y="1643040"/>
            <a:ext cx="30002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64305"/>
                </a:solidFill>
                <a:latin typeface="Corbel"/>
              </a:rPr>
              <a:t>Исследовательско- подготовительный этап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8680" indent="-48348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боснование темы проекта, определение конкретной задачи и её формулировка (почему, зачем, для кого и что мне хотелось бы сделать?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08680" indent="-48348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лан организации по изготовлению проектируемого изделия. Построение «Звездочки обдумывания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08680" indent="-48348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История и традиц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08680" indent="-48348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Выбор модели. Зарисовка эскиз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08680" indent="-483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56840" y="499680"/>
            <a:ext cx="74977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ru-RU" sz="6000" spc="-1" strike="noStrike">
                <a:solidFill>
                  <a:srgbClr val="964305"/>
                </a:solidFill>
                <a:latin typeface="Corbel"/>
              </a:rPr>
              <a:t>Примеры узоров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Солнце 2"/>
          <p:cNvSpPr/>
          <p:nvPr/>
        </p:nvSpPr>
        <p:spPr>
          <a:xfrm>
            <a:off x="3500280" y="3643200"/>
            <a:ext cx="2714760" cy="2071800"/>
          </a:xfrm>
          <a:prstGeom prst="sun">
            <a:avLst>
              <a:gd name="adj" fmla="val 25000"/>
            </a:avLst>
          </a:prstGeom>
          <a:solidFill>
            <a:srgbClr val="c0654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eqgfmp"/>
          <p:cNvPicPr/>
          <p:nvPr/>
        </p:nvPicPr>
        <p:blipFill>
          <a:blip r:embed="rId1"/>
          <a:stretch/>
        </p:blipFill>
        <p:spPr>
          <a:xfrm>
            <a:off x="1500120" y="2286000"/>
            <a:ext cx="2857680" cy="28954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9" descr="(рис.1) Последовательность сборки узора «Ананас»"/>
          <p:cNvPicPr/>
          <p:nvPr/>
        </p:nvPicPr>
        <p:blipFill>
          <a:blip r:embed="rId2"/>
          <a:stretch/>
        </p:blipFill>
        <p:spPr>
          <a:xfrm>
            <a:off x="4762440" y="2048040"/>
            <a:ext cx="3810240" cy="3628800"/>
          </a:xfrm>
          <a:prstGeom prst="rect">
            <a:avLst/>
          </a:prstGeom>
          <a:ln w="0">
            <a:noFill/>
          </a:ln>
        </p:spPr>
      </p:pic>
      <p:sp>
        <p:nvSpPr>
          <p:cNvPr id="363" name="Прямоугольник 4"/>
          <p:cNvSpPr/>
          <p:nvPr/>
        </p:nvSpPr>
        <p:spPr>
          <a:xfrm>
            <a:off x="2176920" y="357120"/>
            <a:ext cx="56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64305"/>
                </a:solidFill>
                <a:latin typeface="Corbel"/>
              </a:rPr>
              <a:t>Узор «Ананас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7" descr="odijgs"/>
          <p:cNvPicPr/>
          <p:nvPr/>
        </p:nvPicPr>
        <p:blipFill>
          <a:blip r:embed="rId1"/>
          <a:stretch/>
        </p:blipFill>
        <p:spPr>
          <a:xfrm>
            <a:off x="1357200" y="25718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" descr="(рис.1)Последовательность сборки узора «Русский квадрат»"/>
          <p:cNvPicPr/>
          <p:nvPr/>
        </p:nvPicPr>
        <p:blipFill>
          <a:blip r:embed="rId2"/>
          <a:stretch/>
        </p:blipFill>
        <p:spPr>
          <a:xfrm>
            <a:off x="4572000" y="2857680"/>
            <a:ext cx="4213080" cy="250812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3"/>
          <p:cNvSpPr/>
          <p:nvPr/>
        </p:nvSpPr>
        <p:spPr>
          <a:xfrm>
            <a:off x="1126080" y="785880"/>
            <a:ext cx="766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64305"/>
                </a:solidFill>
                <a:latin typeface="Corbel"/>
              </a:rPr>
              <a:t>Узор «Русский квадра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7" descr="hjevgi"/>
          <p:cNvPicPr/>
          <p:nvPr/>
        </p:nvPicPr>
        <p:blipFill>
          <a:blip r:embed="rId1"/>
          <a:stretch/>
        </p:blipFill>
        <p:spPr>
          <a:xfrm>
            <a:off x="3352680" y="160020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(рис.1) Последовательность сборки узора «Карточный фокус»."/>
          <p:cNvPicPr/>
          <p:nvPr/>
        </p:nvPicPr>
        <p:blipFill>
          <a:blip r:embed="rId2"/>
          <a:stretch/>
        </p:blipFill>
        <p:spPr>
          <a:xfrm>
            <a:off x="1752480" y="4114800"/>
            <a:ext cx="5639040" cy="202104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949680" y="500040"/>
            <a:ext cx="796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64305"/>
                </a:solidFill>
                <a:latin typeface="Corbel"/>
              </a:rPr>
              <a:t>Узор «Карточный фокус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7" descr="itywrk"/>
          <p:cNvPicPr/>
          <p:nvPr/>
        </p:nvPicPr>
        <p:blipFill>
          <a:blip r:embed="rId1"/>
          <a:stretch/>
        </p:blipFill>
        <p:spPr>
          <a:xfrm>
            <a:off x="3571920" y="1928880"/>
            <a:ext cx="2381040" cy="2409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(рис.1) Последователъностъ сборки узора «Леди озера»."/>
          <p:cNvPicPr/>
          <p:nvPr/>
        </p:nvPicPr>
        <p:blipFill>
          <a:blip r:embed="rId2"/>
          <a:stretch/>
        </p:blipFill>
        <p:spPr>
          <a:xfrm>
            <a:off x="1071720" y="4643280"/>
            <a:ext cx="7848360" cy="161316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3"/>
          <p:cNvSpPr/>
          <p:nvPr/>
        </p:nvSpPr>
        <p:spPr>
          <a:xfrm>
            <a:off x="2122920" y="571680"/>
            <a:ext cx="582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64305"/>
                </a:solidFill>
                <a:latin typeface="Corbel"/>
              </a:rPr>
              <a:t>Узор «Леди озер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28840" y="3571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64305"/>
                </a:solidFill>
                <a:latin typeface="Corbel"/>
              </a:rPr>
              <a:t>Творческий проект-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431720" y="2428920"/>
            <a:ext cx="7407000" cy="3214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Corbel"/>
              </a:rPr>
              <a:t>это самостоятельная творческая итоговая работа, выполненная под руководством учителя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Corbel"/>
              </a:rPr>
              <a:t>Качество выполнения проекта зависит от знаний, умений, навыков, приобретенных на уроках технологии, желания и творческих способностей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Рисунок 1" descr=""/>
          <p:cNvPicPr/>
          <p:nvPr/>
        </p:nvPicPr>
        <p:blipFill>
          <a:blip r:embed="rId1"/>
          <a:stretch/>
        </p:blipFill>
        <p:spPr>
          <a:xfrm>
            <a:off x="1357200" y="1285920"/>
            <a:ext cx="2990880" cy="296208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2" descr=""/>
          <p:cNvPicPr/>
          <p:nvPr/>
        </p:nvPicPr>
        <p:blipFill>
          <a:blip r:embed="rId2"/>
          <a:stretch/>
        </p:blipFill>
        <p:spPr>
          <a:xfrm>
            <a:off x="2143080" y="4572000"/>
            <a:ext cx="1562040" cy="155268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3" descr=""/>
          <p:cNvPicPr/>
          <p:nvPr/>
        </p:nvPicPr>
        <p:blipFill>
          <a:blip r:embed="rId3"/>
          <a:stretch/>
        </p:blipFill>
        <p:spPr>
          <a:xfrm>
            <a:off x="5214960" y="928800"/>
            <a:ext cx="3071880" cy="34290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4" descr=""/>
          <p:cNvPicPr/>
          <p:nvPr/>
        </p:nvPicPr>
        <p:blipFill>
          <a:blip r:embed="rId4"/>
          <a:stretch/>
        </p:blipFill>
        <p:spPr>
          <a:xfrm>
            <a:off x="5715000" y="4643280"/>
            <a:ext cx="1562040" cy="1562400"/>
          </a:xfrm>
          <a:prstGeom prst="rect">
            <a:avLst/>
          </a:prstGeom>
          <a:ln w="0">
            <a:noFill/>
          </a:ln>
        </p:spPr>
      </p:pic>
      <p:sp>
        <p:nvSpPr>
          <p:cNvPr id="377" name="TextBox 5"/>
          <p:cNvSpPr/>
          <p:nvPr/>
        </p:nvSpPr>
        <p:spPr>
          <a:xfrm>
            <a:off x="1928880" y="21420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64305"/>
                </a:solidFill>
                <a:latin typeface="Corbel"/>
              </a:rPr>
              <a:t>Узор «Цвет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Рисунок 1" descr=""/>
          <p:cNvPicPr/>
          <p:nvPr/>
        </p:nvPicPr>
        <p:blipFill>
          <a:blip r:embed="rId1"/>
          <a:stretch/>
        </p:blipFill>
        <p:spPr>
          <a:xfrm>
            <a:off x="6357960" y="1000080"/>
            <a:ext cx="2562120" cy="255276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2" descr=""/>
          <p:cNvPicPr/>
          <p:nvPr/>
        </p:nvPicPr>
        <p:blipFill>
          <a:blip r:embed="rId2"/>
          <a:stretch/>
        </p:blipFill>
        <p:spPr>
          <a:xfrm>
            <a:off x="5072040" y="264312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3" descr=""/>
          <p:cNvPicPr/>
          <p:nvPr/>
        </p:nvPicPr>
        <p:blipFill>
          <a:blip r:embed="rId3"/>
          <a:stretch/>
        </p:blipFill>
        <p:spPr>
          <a:xfrm>
            <a:off x="2357280" y="2786040"/>
            <a:ext cx="2543400" cy="255276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4" descr=""/>
          <p:cNvPicPr/>
          <p:nvPr/>
        </p:nvPicPr>
        <p:blipFill>
          <a:blip r:embed="rId4"/>
          <a:stretch/>
        </p:blipFill>
        <p:spPr>
          <a:xfrm>
            <a:off x="1071720" y="4857840"/>
            <a:ext cx="1542960" cy="1495440"/>
          </a:xfrm>
          <a:prstGeom prst="rect">
            <a:avLst/>
          </a:prstGeom>
          <a:ln w="0">
            <a:noFill/>
          </a:ln>
        </p:spPr>
      </p:pic>
      <p:sp>
        <p:nvSpPr>
          <p:cNvPr id="382" name="TextBox 5"/>
          <p:cNvSpPr/>
          <p:nvPr/>
        </p:nvSpPr>
        <p:spPr>
          <a:xfrm>
            <a:off x="1714680" y="357120"/>
            <a:ext cx="421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64305"/>
                </a:solidFill>
                <a:latin typeface="Corbel"/>
              </a:rPr>
              <a:t>Узор «Ваз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1" descr=""/>
          <p:cNvPicPr/>
          <p:nvPr/>
        </p:nvPicPr>
        <p:blipFill>
          <a:blip r:embed="rId1"/>
          <a:stretch/>
        </p:blipFill>
        <p:spPr>
          <a:xfrm>
            <a:off x="5000760" y="1643040"/>
            <a:ext cx="3000240" cy="297180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2" descr=""/>
          <p:cNvPicPr/>
          <p:nvPr/>
        </p:nvPicPr>
        <p:blipFill>
          <a:blip r:embed="rId2"/>
          <a:stretch/>
        </p:blipFill>
        <p:spPr>
          <a:xfrm>
            <a:off x="2928960" y="4000680"/>
            <a:ext cx="2181240" cy="2162160"/>
          </a:xfrm>
          <a:prstGeom prst="rect">
            <a:avLst/>
          </a:prstGeom>
          <a:ln w="0">
            <a:noFill/>
          </a:ln>
        </p:spPr>
      </p:pic>
      <p:sp>
        <p:nvSpPr>
          <p:cNvPr id="385" name="TextBox 3"/>
          <p:cNvSpPr/>
          <p:nvPr/>
        </p:nvSpPr>
        <p:spPr>
          <a:xfrm>
            <a:off x="2000160" y="42876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64305"/>
                </a:solidFill>
                <a:latin typeface="Corbel"/>
              </a:rPr>
              <a:t>Узор «Листопад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1" descr=""/>
          <p:cNvPicPr/>
          <p:nvPr/>
        </p:nvPicPr>
        <p:blipFill>
          <a:blip r:embed="rId1"/>
          <a:stretch/>
        </p:blipFill>
        <p:spPr>
          <a:xfrm>
            <a:off x="4572000" y="1285920"/>
            <a:ext cx="4376880" cy="330048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2" descr=""/>
          <p:cNvPicPr/>
          <p:nvPr/>
        </p:nvPicPr>
        <p:blipFill>
          <a:blip r:embed="rId2"/>
          <a:stretch/>
        </p:blipFill>
        <p:spPr>
          <a:xfrm>
            <a:off x="1071720" y="3429000"/>
            <a:ext cx="4152600" cy="3191040"/>
          </a:xfrm>
          <a:prstGeom prst="rect">
            <a:avLst/>
          </a:prstGeom>
          <a:ln w="0">
            <a:noFill/>
          </a:ln>
        </p:spPr>
      </p:pic>
      <p:sp>
        <p:nvSpPr>
          <p:cNvPr id="388" name="TextBox 3"/>
          <p:cNvSpPr/>
          <p:nvPr/>
        </p:nvSpPr>
        <p:spPr>
          <a:xfrm>
            <a:off x="1428840" y="571680"/>
            <a:ext cx="3000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64305"/>
                </a:solidFill>
                <a:latin typeface="Corbel"/>
              </a:rPr>
              <a:t>Уз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64305"/>
                </a:solidFill>
                <a:latin typeface="Corbel"/>
              </a:rPr>
              <a:t>«Звёздн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64305"/>
                </a:solidFill>
                <a:latin typeface="Corbel"/>
              </a:rPr>
              <a:t>россып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1714680" y="214200"/>
          <a:ext cx="6143400" cy="6505560"/>
        </p:xfrm>
        <a:graphic>
          <a:graphicData uri="http://schemas.openxmlformats.org/drawingml/2006/table">
            <a:tbl>
              <a:tblPr/>
              <a:tblGrid>
                <a:gridCol w="3071520"/>
                <a:gridCol w="3071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Ц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полнительные цв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ра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еленый, серый, синий, желтый, черный, коричнев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ранже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иолетовый, ярко-синий, бледно-голуб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Желт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ерный, синий, красный, коричневый, зеленый, голубой, фиолетов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мно-зеле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ричневый, бежев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еленый (светлы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Желтый, оранжевый, темно-зеленый, песочный, розов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ледно-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мно-красный, сер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ерый, белый, голубой, желтый, красный, черн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иолет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ветло-зеленый, темно-зелен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ричне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Желтый, черный, красный, бежевый, зелен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ер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иолетовый, малин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64305"/>
                </a:solidFill>
                <a:latin typeface="Corbel"/>
              </a:rPr>
              <a:t>Исследовательско- подготовительный этап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447560"/>
            <a:ext cx="749952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76280" indent="-452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Обоснование темы проекта, определение конкретной задачи и её формулировка (почему, зачем, для кого и что мне хотелось бы сделать?)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76280" indent="-452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План организации по изготовлению проектируемого изделия. Построение «Звездочки обдумывания»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76280" indent="-452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История и традици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76280" indent="-452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Выбор модели. Зарисовка эскиз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76280" indent="-452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22223"/>
                </a:solidFill>
                <a:latin typeface="Corbel"/>
              </a:rPr>
              <a:t>Выбор материалов и оборудова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76280" indent="-452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76280" indent="-452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1"/>
          <p:cNvSpPr/>
          <p:nvPr/>
        </p:nvSpPr>
        <p:spPr>
          <a:xfrm>
            <a:off x="1643040" y="0"/>
            <a:ext cx="6000840" cy="75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4305"/>
                </a:solidFill>
                <a:latin typeface="Corbel"/>
              </a:rPr>
              <a:t>Рекомендуемые тка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4305"/>
                </a:solidFill>
                <a:latin typeface="Corbel"/>
              </a:rPr>
              <a:t>для работы в лоскутной технике для начинающ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Corbel"/>
              </a:rPr>
              <a:t>Хлопчатобумажные тка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сите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сати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бяз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флан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войства  х\б ткан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4305"/>
                </a:solidFill>
                <a:latin typeface="Corbel"/>
              </a:rPr>
              <a:t>1.Проч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4305"/>
                </a:solidFill>
                <a:latin typeface="Corbel"/>
              </a:rPr>
              <a:t>2.Легкие в обработке (малосыпучие, легко утюжатся, не скользя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4305"/>
                </a:solidFill>
                <a:latin typeface="Corbel"/>
              </a:rPr>
              <a:t>3.Обладают красивыми  расцве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4305"/>
                </a:solidFill>
                <a:latin typeface="Corbel"/>
              </a:rPr>
              <a:t>4. Выдерживают большие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galler"/>
          <p:cNvPicPr/>
          <p:nvPr/>
        </p:nvPicPr>
        <p:blipFill>
          <a:blip r:embed="rId1"/>
          <a:stretch/>
        </p:blipFill>
        <p:spPr>
          <a:xfrm>
            <a:off x="7500960" y="1285920"/>
            <a:ext cx="1357200" cy="530856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1500120" y="21420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orbel"/>
              </a:rPr>
              <a:t>Оборудование, инструмен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orbel"/>
              </a:rPr>
              <a:t>и матери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5"/>
          <p:cNvSpPr/>
          <p:nvPr/>
        </p:nvSpPr>
        <p:spPr>
          <a:xfrm>
            <a:off x="1571760" y="1428840"/>
            <a:ext cx="5929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Иглы ру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антиметровая лента и 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Утю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Швейная 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Шабл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Нитк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ртновские була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ел, каранд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Тес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Ткань-основа, лоскуты, прокладочная ткань или синтеп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64305"/>
                </a:solidFill>
                <a:latin typeface="Corbel"/>
              </a:rPr>
              <a:t>Исследовательско- подготовительный этап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447920"/>
            <a:ext cx="7499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7880" indent="-473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Обоснование темы проекта, определение конкретной задачи и её формулировка (почему, зачем, для кого и что мне хотелось бы сделать?)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97880" indent="-473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План организации по изготовлению проектируемого изделия. Построение «Звездочки обдумывания»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97880" indent="-473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История и традици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97880" indent="-473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Выбор модели. Зарисовка эскиз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97880" indent="-473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Выбор материалов и оборудова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97880" indent="-473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rbel"/>
              </a:rPr>
              <a:t>Расчет себестоимост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97880" indent="-473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редварительный расчет себестоимости прихватк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500120" y="1571760"/>
          <a:ext cx="7358040" cy="5054400"/>
        </p:xfrm>
        <a:graphic>
          <a:graphicData uri="http://schemas.openxmlformats.org/drawingml/2006/table">
            <a:tbl>
              <a:tblPr/>
              <a:tblGrid>
                <a:gridCol w="623880"/>
                <a:gridCol w="2319480"/>
                <a:gridCol w="1471680"/>
                <a:gridCol w="1471320"/>
                <a:gridCol w="147168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Наименование используемых материа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Цена (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Расход материа-лов на издел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Затраты на матери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Хлобчатобумаж-ная тка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статоч-ные лоску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и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сть в налич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кладочная тка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ывшая в употреб-л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тог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1"/>
          <p:cNvSpPr/>
          <p:nvPr/>
        </p:nvSpPr>
        <p:spPr>
          <a:xfrm>
            <a:off x="1785960" y="5716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64305"/>
                </a:solidFill>
                <a:latin typeface="Corbel"/>
              </a:rPr>
              <a:t>Этапы выполнения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1000080" y="2000160"/>
            <a:ext cx="2428920" cy="1214640"/>
          </a:xfrm>
          <a:prstGeom prst="rect">
            <a:avLst/>
          </a:prstGeom>
          <a:solidFill>
            <a:srgbClr val="eaccc3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сследовательско-подготовительный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3929040" y="2000160"/>
            <a:ext cx="2357640" cy="1143000"/>
          </a:xfrm>
          <a:prstGeom prst="rect">
            <a:avLst/>
          </a:prstGeom>
          <a:solidFill>
            <a:srgbClr val="eaccc3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Технологический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5"/>
          <p:cNvSpPr/>
          <p:nvPr/>
        </p:nvSpPr>
        <p:spPr>
          <a:xfrm>
            <a:off x="6786720" y="2000160"/>
            <a:ext cx="2143080" cy="1143000"/>
          </a:xfrm>
          <a:prstGeom prst="rect">
            <a:avLst/>
          </a:prstGeom>
          <a:solidFill>
            <a:srgbClr val="eaccc3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Заключительный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Овал 6"/>
          <p:cNvSpPr/>
          <p:nvPr/>
        </p:nvSpPr>
        <p:spPr>
          <a:xfrm>
            <a:off x="1000080" y="4286160"/>
            <a:ext cx="2786040" cy="928800"/>
          </a:xfrm>
          <a:prstGeom prst="ellipse">
            <a:avLst/>
          </a:prstGeom>
          <a:solidFill>
            <a:srgbClr val="d4ebf1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очему и зачем я буду это 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7"/>
          <p:cNvSpPr/>
          <p:nvPr/>
        </p:nvSpPr>
        <p:spPr>
          <a:xfrm>
            <a:off x="4071960" y="4286160"/>
            <a:ext cx="2286000" cy="857520"/>
          </a:xfrm>
          <a:prstGeom prst="ellipse">
            <a:avLst/>
          </a:prstGeom>
          <a:solidFill>
            <a:srgbClr val="d4ebf1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ак я буду это 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Овал 8"/>
          <p:cNvSpPr/>
          <p:nvPr/>
        </p:nvSpPr>
        <p:spPr>
          <a:xfrm>
            <a:off x="6858000" y="4286160"/>
            <a:ext cx="2071800" cy="857520"/>
          </a:xfrm>
          <a:prstGeom prst="ellipse">
            <a:avLst/>
          </a:prstGeom>
          <a:solidFill>
            <a:srgbClr val="d4ebf1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Что я сдела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трелка вниз 20"/>
          <p:cNvSpPr/>
          <p:nvPr/>
        </p:nvSpPr>
        <p:spPr>
          <a:xfrm>
            <a:off x="2214720" y="3214800"/>
            <a:ext cx="45720" cy="928440"/>
          </a:xfrm>
          <a:prstGeom prst="downArrow">
            <a:avLst>
              <a:gd name="adj1" fmla="val 50000"/>
              <a:gd name="adj2" fmla="val 50298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трелка вниз 21"/>
          <p:cNvSpPr/>
          <p:nvPr/>
        </p:nvSpPr>
        <p:spPr>
          <a:xfrm>
            <a:off x="5143680" y="3143160"/>
            <a:ext cx="45720" cy="1000080"/>
          </a:xfrm>
          <a:prstGeom prst="downArrow">
            <a:avLst>
              <a:gd name="adj1" fmla="val 50000"/>
              <a:gd name="adj2" fmla="val 5033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трелка вниз 22"/>
          <p:cNvSpPr/>
          <p:nvPr/>
        </p:nvSpPr>
        <p:spPr>
          <a:xfrm>
            <a:off x="7929720" y="3143160"/>
            <a:ext cx="71280" cy="100008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трелка вправо 11"/>
          <p:cNvSpPr/>
          <p:nvPr/>
        </p:nvSpPr>
        <p:spPr>
          <a:xfrm>
            <a:off x="3429000" y="2571840"/>
            <a:ext cx="42876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трелка вправо 13"/>
          <p:cNvSpPr/>
          <p:nvPr/>
        </p:nvSpPr>
        <p:spPr>
          <a:xfrm>
            <a:off x="6286680" y="2571840"/>
            <a:ext cx="428400" cy="46080"/>
          </a:xfrm>
          <a:prstGeom prst="rightArrow">
            <a:avLst>
              <a:gd name="adj1" fmla="val 50000"/>
              <a:gd name="adj2" fmla="val 49928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1"/>
          <p:cNvSpPr/>
          <p:nvPr/>
        </p:nvSpPr>
        <p:spPr>
          <a:xfrm>
            <a:off x="2071800" y="1214280"/>
            <a:ext cx="600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orbel"/>
              </a:rPr>
              <a:t>Цель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2"/>
          <p:cNvSpPr/>
          <p:nvPr/>
        </p:nvSpPr>
        <p:spPr>
          <a:xfrm>
            <a:off x="1571760" y="2428920"/>
            <a:ext cx="5857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271c"/>
                </a:solidFill>
                <a:latin typeface="Corbel"/>
              </a:rPr>
              <a:t>научиться разрабатывать исследовательско- подготовительный этап проекта «Прихват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57200" y="428400"/>
            <a:ext cx="740736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4305"/>
                </a:solidFill>
                <a:latin typeface="Corbel"/>
              </a:rPr>
              <a:t>Проект по технологии</a:t>
            </a:r>
            <a:br>
              <a:rPr sz="3200"/>
            </a:br>
            <a:r>
              <a:rPr b="1" lang="ru-RU" sz="3200" spc="-1" strike="noStrike">
                <a:solidFill>
                  <a:srgbClr val="964305"/>
                </a:solidFill>
                <a:latin typeface="Corbel"/>
              </a:rPr>
              <a:t>«Изготовление швейного  изделия </a:t>
            </a:r>
            <a:br>
              <a:rPr sz="3200"/>
            </a:br>
            <a:r>
              <a:rPr b="1" lang="ru-RU" sz="3200" spc="-1" strike="noStrike">
                <a:solidFill>
                  <a:srgbClr val="964305"/>
                </a:solidFill>
                <a:latin typeface="Corbel"/>
              </a:rPr>
              <a:t>в лоскутной технике»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500120" y="2143080"/>
            <a:ext cx="7407360" cy="4143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rbel"/>
              </a:rPr>
              <a:t>Тема урока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0e04"/>
                </a:solidFill>
                <a:latin typeface="Corbel"/>
              </a:rPr>
              <a:t>Разработка исследовательско-подготовительного этапа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0e04"/>
                </a:solidFill>
                <a:latin typeface="Corbel"/>
              </a:rPr>
              <a:t>на примере простейшего изделия прихватки, выполненного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0e04"/>
                </a:solidFill>
                <a:latin typeface="Corbel"/>
              </a:rPr>
              <a:t>в технике «Печворк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77960" y="2642760"/>
            <a:ext cx="640080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НАУЧИТЬСЯ РАЗРАБАТЫВАТЬ ИССЛЕДОВАТЕЛЬСКО- ПОДГОТОВИТЕЛЬНЫЙ ЭТАП ПРОЕКТА «ПРИХВАТКА»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4f271c"/>
                </a:solidFill>
                <a:latin typeface="Corbel"/>
              </a:rPr>
              <a:t>Цель урока: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64305"/>
                </a:solidFill>
                <a:latin typeface="Corbel"/>
              </a:rPr>
              <a:t>Исследовательско- подготовительный этап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1720" y="2143080"/>
            <a:ext cx="7407000" cy="3857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Corbel"/>
              </a:rPr>
              <a:t>Обоснование темы проекта, определение конкретной задачи и её формулировка (почему, зачем, для кого и что мне хотелось бы сделать?)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Corbel"/>
              </a:rPr>
              <a:t>План организации по изготовлению проектируемого изделия. Построение «Звездочки обдумывания»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Corbel"/>
              </a:rPr>
              <a:t>История и традици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54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1357200" y="0"/>
            <a:ext cx="742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64305"/>
                </a:solidFill>
                <a:latin typeface="Corbel"/>
              </a:rPr>
              <a:t>Швейные изделия, выполненные в лоскутной техн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7" descr="gnkqjk"/>
          <p:cNvPicPr/>
          <p:nvPr/>
        </p:nvPicPr>
        <p:blipFill>
          <a:blip r:embed="rId1"/>
          <a:stretch/>
        </p:blipFill>
        <p:spPr>
          <a:xfrm>
            <a:off x="1571760" y="1928880"/>
            <a:ext cx="4143240" cy="2071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tydgwl"/>
          <p:cNvPicPr/>
          <p:nvPr/>
        </p:nvPicPr>
        <p:blipFill>
          <a:blip r:embed="rId2"/>
          <a:stretch/>
        </p:blipFill>
        <p:spPr>
          <a:xfrm>
            <a:off x="5072040" y="421488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yhlngf"/>
          <p:cNvPicPr/>
          <p:nvPr/>
        </p:nvPicPr>
        <p:blipFill>
          <a:blip r:embed="rId1"/>
          <a:stretch/>
        </p:blipFill>
        <p:spPr>
          <a:xfrm>
            <a:off x="1643040" y="1000080"/>
            <a:ext cx="3643200" cy="2460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oivtws"/>
          <p:cNvPicPr/>
          <p:nvPr/>
        </p:nvPicPr>
        <p:blipFill>
          <a:blip r:embed="rId2"/>
          <a:stretch/>
        </p:blipFill>
        <p:spPr>
          <a:xfrm>
            <a:off x="2357280" y="3714840"/>
            <a:ext cx="2357640" cy="27651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akiiq"/>
          <p:cNvPicPr/>
          <p:nvPr/>
        </p:nvPicPr>
        <p:blipFill>
          <a:blip r:embed="rId3"/>
          <a:srcRect l="36001" t="0" r="0" b="0"/>
          <a:stretch/>
        </p:blipFill>
        <p:spPr>
          <a:xfrm>
            <a:off x="6143760" y="1143000"/>
            <a:ext cx="25002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Рисунок 1" descr=""/>
          <p:cNvPicPr/>
          <p:nvPr/>
        </p:nvPicPr>
        <p:blipFill>
          <a:blip r:embed="rId1"/>
          <a:stretch/>
        </p:blipFill>
        <p:spPr>
          <a:xfrm>
            <a:off x="2000160" y="642960"/>
            <a:ext cx="2914920" cy="369576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5" descr=""/>
          <p:cNvPicPr/>
          <p:nvPr/>
        </p:nvPicPr>
        <p:blipFill>
          <a:blip r:embed="rId2"/>
          <a:stretch/>
        </p:blipFill>
        <p:spPr>
          <a:xfrm>
            <a:off x="5500800" y="3000240"/>
            <a:ext cx="32144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7:26:51Z</dcterms:created>
  <dc:creator>Наталья Николаевна</dc:creator>
  <dc:description/>
  <dc:language>en-US</dc:language>
  <cp:lastModifiedBy>Owner</cp:lastModifiedBy>
  <dcterms:modified xsi:type="dcterms:W3CDTF">2011-04-02T20:33:31Z</dcterms:modified>
  <cp:revision>91</cp:revision>
  <dc:subject/>
  <dc:title>Проект по технологии. «Изготовление швейного  изделия в лоскутной технике»</dc:title>
</cp:coreProperties>
</file>